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9EF-D3A4-4F19-82F2-2D9448E3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935-8882-4FD7-8596-3209C5EA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04E-B973-4D3C-84AC-8B473F2A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93D-2B06-4002-97A3-A8B16234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726-1C4E-4242-848B-5EE05DFB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340-03B0-4E60-892E-34964AB2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2D8-1399-4628-98E2-7F22A870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23D-2DC9-49D1-AF6E-64CD020E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976-FD9A-4E3F-8E1E-CB56CCC6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E46-9714-447F-B55A-F766E3FA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391-CB68-4294-A504-66CA152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400-F459-4B55-9BFE-7A4FBA12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8ACD7-6491-448F-B4C2-176445432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A0EBF-D122-4A8B-9992-32DFB2CD7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are the products in this equation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+ 2 O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 KCl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 KCl + 3 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KOH </a:t>
            </a:r>
            <a:r>
              <a:rPr b="0" lang="en-US" sz="4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12Rb + 2NO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6Rb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O + N</a:t>
            </a:r>
            <a:r>
              <a:rPr b="0" lang="en-US" sz="5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2. Foldable Note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eading pg 106-107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3. Classification Gam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4. Independent Practic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5. Closing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dable - Outs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397160"/>
          <a:ext cx="8920080" cy="4473360"/>
        </p:xfrm>
        <a:graphic>
          <a:graphicData uri="http://schemas.openxmlformats.org/drawingml/2006/table">
            <a:tbl>
              <a:tblPr/>
              <a:tblGrid>
                <a:gridCol w="2973240"/>
                <a:gridCol w="2973600"/>
                <a:gridCol w="2973240"/>
              </a:tblGrid>
              <a:tr h="365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ynthes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Decomposi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place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5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9.2 Chemical      Reaction Typ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Dodecagon 6"/>
          <p:cNvSpPr/>
          <p:nvPr/>
        </p:nvSpPr>
        <p:spPr>
          <a:xfrm>
            <a:off x="8109000" y="5278320"/>
            <a:ext cx="36828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decagon 7"/>
          <p:cNvSpPr/>
          <p:nvPr/>
        </p:nvSpPr>
        <p:spPr>
          <a:xfrm>
            <a:off x="795240" y="5278320"/>
            <a:ext cx="36684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decagon 8"/>
          <p:cNvSpPr/>
          <p:nvPr/>
        </p:nvSpPr>
        <p:spPr>
          <a:xfrm>
            <a:off x="4143240" y="5294160"/>
            <a:ext cx="366840" cy="351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22400" y="214200"/>
          <a:ext cx="8920080" cy="6643800"/>
        </p:xfrm>
        <a:graphic>
          <a:graphicData uri="http://schemas.openxmlformats.org/drawingml/2006/table">
            <a:tbl>
              <a:tblPr/>
              <a:tblGrid>
                <a:gridCol w="2973240"/>
                <a:gridCol w="2973240"/>
                <a:gridCol w="2973600"/>
              </a:tblGrid>
              <a:tr h="29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9.2 Chemical      Reaction Typ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" name="Dodecagon 6"/>
          <p:cNvSpPr/>
          <p:nvPr/>
        </p:nvSpPr>
        <p:spPr>
          <a:xfrm>
            <a:off x="8185320" y="6318360"/>
            <a:ext cx="36828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decagon 7"/>
          <p:cNvSpPr/>
          <p:nvPr/>
        </p:nvSpPr>
        <p:spPr>
          <a:xfrm>
            <a:off x="871560" y="6318360"/>
            <a:ext cx="36684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decagon 8"/>
          <p:cNvSpPr/>
          <p:nvPr/>
        </p:nvSpPr>
        <p:spPr>
          <a:xfrm>
            <a:off x="4219560" y="6334200"/>
            <a:ext cx="368280" cy="352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assify the following as synthesis, decomposition, or replacement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2POCl</a:t>
            </a:r>
            <a:r>
              <a:rPr b="0" lang="es-ES" sz="4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 2PCl</a:t>
            </a:r>
            <a:r>
              <a:rPr b="0" lang="es-ES" sz="4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0" lang="es-E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 3O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2CO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 3H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4 Fe + 3 O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2 Fe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2H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 2CO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+ 3H</a:t>
            </a:r>
            <a:r>
              <a:rPr b="0" lang="en-US" sz="4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2 Al +  3 Br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22:35:14Z</dcterms:created>
  <dc:creator>Caroline Roth</dc:creator>
  <dc:description/>
  <dc:language>en-US</dc:language>
  <cp:lastModifiedBy>Caroline Roth</cp:lastModifiedBy>
  <dcterms:modified xsi:type="dcterms:W3CDTF">2011-04-07T22:32:42Z</dcterms:modified>
  <cp:revision>3</cp:revision>
  <dc:subject/>
  <dc:title>Do Now</dc:title>
</cp:coreProperties>
</file>